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851-7613-4DB3-9762-31188B57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9C0-4EA1-42F1-8879-8797A54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2656B-C7F0-4D84-AD13-6BEFAE8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C6359-CC83-4D30-A777-6D3B7E3C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1D131-A2F0-4FF6-818B-42AB8E3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53B24-8A50-4E67-A7E3-C41760D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25256-7956-4A09-89A7-2F86059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BCB28-950F-4A15-8A63-140FB92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E28CF-68F2-4528-ACB0-6E27CD2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ECC11-5E0D-4BD7-91A2-989CCA12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A17D6-C973-4359-8231-F5BE187A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970CD-D8FC-4DF9-BCDD-B119D499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3C6-B121-486E-A553-64BD0A71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7CA16-E7CD-46F9-8845-B40C261A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A9496-A6DD-4FF3-BB2C-55D5B14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3A2D1-0BB1-493F-912F-F8771A01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75C8C-4B70-4AF2-8F7D-1DBE6CCF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24E37-8F9E-4880-8FD8-C91EACD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C760-BCF4-4844-96A3-7210ADB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79B5-0ABF-4956-88BD-FB0BCDE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ACAE1-59DE-4C35-98E7-3167FD6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679D0-D786-442A-BA2B-CF1D4E09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71CA-8C02-4C73-B19F-0298CA9B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DC9-8960-4D13-A851-D4AC2628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49E29-5F74-4C84-A4E2-B4ABDB92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BF0CE-2751-4F54-96A2-C6AAC1F3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0AB38-DC28-4B6C-9183-62E8897E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7CAEE-74A1-410B-844E-6112F28C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E8EAF-E1AE-471B-8447-96B7DCC4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EC857-812F-4432-96F3-D567560B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2FB81-C1E3-4318-9C3E-8CC481D9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FF5FD-554F-4DED-A26B-E5D1A17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3AD73-7E0E-4EA3-90F6-9F783B9B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8A3B0-B73E-4167-9120-E052090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0B2C-A50B-4EC5-BCB0-4986BAC8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FE9C-F39D-4EAC-99E6-AE86C38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E6A6-A767-4867-8999-5734E8DE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B8672-CD22-49D9-90D0-630ED98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52405-F2CD-4965-A3B5-F7814F5E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00248-BCF0-4AE6-9CF6-FA46B42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0CD3E-D677-45E6-9BB8-3B796B94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399FE-54AB-4286-8648-276F12EC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E7A86-B1EB-448A-B404-C03293EA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AA562-6880-454D-AF28-4FED06FC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3713A-F879-4378-8529-0DC7FD8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4D4-3771-4FE4-9924-849C69A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D3F00-17B6-4993-A299-3CC6F0E8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95DDF-005F-4BC1-A9B1-2F33C987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DD09B-7F56-4CEA-B4FD-618B7DE5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E3964-CAB8-499B-A2D2-C84BE031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9C553-5224-41B6-A812-5093B582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24462-4535-41B1-A174-7FAA4D2E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36B3D-81F5-420D-8DFF-153236E0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B1B4E-D508-4646-9390-D8F1F1A8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294DB-6FE8-42FE-A67B-B618007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590D7-CE96-4443-B983-32432F3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B662-8FA0-4D39-B54F-92BF3DC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744F3-0A4B-473A-B548-19CF5F0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3A91F-8836-49C6-934C-FCAFAC7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F735B-F3DF-4F93-961B-37F2BF6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A7DCD-215B-4D48-9C2F-57BBAC83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30BF0-D02B-44A8-96EF-EF20A3BB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27FD3-3B0D-4DA6-8F89-1CA645CA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2326B-34CC-42DB-AFDC-CF212407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D929E-E11B-4579-84E1-2B108B39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0F403-1F82-4691-83CA-4CDB8F9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4A5F0-C4B4-4039-9E5F-A9A3F0DC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BE7C-722B-46BA-A686-080F301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DD6C6-44A7-49CD-A7C5-7BDD498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84CE7-5B44-438C-81F8-B49E524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AE0B9-9E45-4095-AD9C-189AF2C0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A825C-FCE1-4F0C-B63C-5558045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F8C02F-1BE1-4600-AA6A-0DCB1ED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B18E9-E0E4-42C7-9E0C-4120026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7D934-2EA8-47C9-8970-6819D22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9C95D-E8D2-44A5-A306-DAD6EF5D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F0A8C-E7DE-4CE2-B13C-F5995CE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7BEE0-4A6F-447A-A186-D9F95C93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9F45-4D72-415E-810D-FADE58A9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4B3D1-DED9-4043-A059-D2CBFC6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C2EE2-BB11-4FD7-8AA4-027FC7E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FEC09-1173-4830-807E-F4A7B57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85C83-610B-42E3-8E75-95B0553F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93458-5943-40CA-8279-6ABDD5E4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CCA768-7A58-4AA1-B706-3BB137FA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95F36-9EE9-4DB0-9D82-CFE9CB1C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11DEA-3A98-434B-9102-6907A03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3AC07-078A-464D-8B97-0384F480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47C23-FB68-4D30-9E05-A8CE921B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F8A-44F4-4A2E-BEF9-78476F1C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69A7D-DE4E-453A-83C0-A2F3A27A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C1B966-7FE6-437A-B952-C8521884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5327C-9EC4-45DE-9A44-18882D5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28B90-3E3F-45B4-B319-53153C9C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F4FB7-5FBE-42EE-837F-CF35006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F04F45-5D02-4099-8B65-55302C42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03959-7DF4-4ACD-AA7B-63DB5D6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780E0-E454-42F9-866C-4CE3C7A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DC578-B21C-468B-A43B-1085CBF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40CB3-3B13-4644-A830-517256CA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23E5-D269-442A-AAA0-B5DE1ED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020A3-6500-4E95-BCC1-850FFAD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19885-6B04-4FAD-A835-AF0374D2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F240C-BF2E-4F42-BEAF-FFCD0B2D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3ECB9-2A16-4B4D-9769-08F048A3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27C458-A0EA-4B40-974F-05411EC7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BB1FC-8CF6-46F7-A2F6-D761F3D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7B116-226B-40A2-B426-3CE9C27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BA9C0-5819-4D5E-9474-FCC4CB1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82CDD-D3DA-49A3-971A-A0436E4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2B262-E45E-45BE-BED1-41FB51A4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1AA-93FE-48F1-BA91-0533254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DF08-6CFA-4757-B513-071DFB6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C8959-EACA-4D0F-9C8D-F2EE91C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95AA2-5267-4CAC-B1BB-B80A3E7E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F4C6F-0489-4F01-A0B7-9A40E81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CBCCF-9DF9-47FD-9ED9-8588F53D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5C7E9-63AA-4388-B5F6-6D31C834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BBAFCE-4E09-4890-8C21-52E67A83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963EB-17EE-425A-A4DD-17F0938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4A2C2-B8E2-4DB4-B287-AD3B8FCF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10815-0DCF-4F75-A3AF-FAF7495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7B233-B037-4539-80AC-B8F00D1D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8CD4-6180-48E5-8B6F-B01EBA9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54475-1E4D-4D00-8007-E4FB31B6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359A8-4553-496C-AB12-02BBED7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87DF7-A56C-47EE-B36F-9405249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1AEE3-BEFE-4A96-9371-C470648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8A473-28E2-4825-833D-D16F556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06E9F-DCA0-414D-89E1-595CD8BD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90698-3EE7-48CE-BBCF-9F49E6E7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62F25-4359-4CBE-A41E-5FB60B4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59E66-E884-41A0-95C0-A1D00EFA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87A43-F81D-43D4-95EA-2AA3AF05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BA5D-61C1-41A0-8A70-669B9D0A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F6CEF-9EF0-477A-8E6C-4903336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A20B0-0393-485A-990C-AB871E8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6593F-FE46-44E9-B619-22A1B146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1B928-6A5A-495A-B8BE-8EAA19CF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05681F-430D-4BA9-B343-0576C337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8D7B0-FCFB-4BDB-8202-F2720C0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A4C7BF-1A86-408E-A79B-01E34C96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F176A-6F87-4FE0-91A3-A295A12E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A242CD-610D-411F-BEAF-5CAEB6F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0E489E-F808-4287-9F57-F64C2EB0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5667-2073-46D4-A3A8-1E3CCCC9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FB9AE-975D-48ED-96AE-07C3207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88828-318A-4ED7-B0D3-4620E330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CE58D-8840-4A78-AA1D-AD26FA33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5D74C-136F-4827-A78C-B7178F47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9A669-F8D3-40FD-9D1E-07E200D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CC885-1E09-4A26-BC5C-94689F29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98B7D-7B64-48B1-A756-777E3581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F7DB6-28C7-4DB9-8768-42D70ED2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0E097-8151-463A-A45A-B2B425B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8C224-0355-4E30-BAB2-607BF522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811B-F142-4DC9-8D49-634BA5BC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29287-352C-4958-889C-1C717E7A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E4812-A084-41C8-A2F0-8BE1E64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A9CE6-01C8-4714-8766-D45D0B74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BBB895-1DCE-4C9D-B888-A1E956E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A5429-C3FA-4971-8B16-78F30231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9E310-EC76-4A55-8B78-49752B74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ED896-ECF8-47EC-AA33-D6517F99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D857E-4738-4339-A8A6-29DE537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A9FCE-C394-417D-8B43-16820C2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F63F1-311A-4F7C-8E53-AB87A7A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47E1-639F-4938-A06D-6CEF6544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51D50-F484-4858-97AD-7C73C70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05EC1-A56F-486C-861E-38FBFE77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43E40E-BDC7-4A04-B1C8-62DB692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40BF3B-79B6-4626-8123-D3DC83DB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E1D39-617A-4C8B-8ED3-EA83CB00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5768A-075F-4E3D-92AE-07746DF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0A3F5-E67E-45E1-92AD-809F387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33DA3C-FDA8-4FB7-8343-2FABC485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57B620-5791-4928-A5D8-FA202D51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48559-0234-4CE6-A425-65A9EE3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652E-67AE-44A8-8505-4F7108F5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D39F0-BA0E-4EFC-8B11-F89639B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8160D-B851-4040-B386-03AAC172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6C9DD9-88BE-466E-828D-0511CB3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EAC756-D294-43C1-9496-74FA7F78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7B11A-1E87-4D8F-B9C9-60BD3F8D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853CB-1E92-4CF3-90D8-498619A1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E79765-12AB-439A-8000-C6400ED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D68B6-41C7-4FA4-857E-FA79B472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1B15E-AB8A-48CC-ACFE-CC70838C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2A481-1AD4-4318-97DA-773413C8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03E6-0093-40D3-8160-0358065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29C6B-E3F7-4149-8F54-F556E45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CC4195-27B9-4B36-A0FE-69DF7C8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FCB92-C807-4BCA-8A75-2CE1F03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E46BF-72DC-4C5A-AC4B-0F00005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6EA7D-3408-4554-8527-DEC9D5B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467CC-2246-4008-96B3-CD7C5E2D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15A2EB-4E85-468F-8C68-7746F88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2CCDF-78FD-4497-BF4F-CF0D9568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0CD421-FB19-4F97-947B-991F3793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7BD115-1FE2-46FA-9DB7-2219351B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FBE2-A19A-4A75-ABD6-F53A164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1E968-DB1D-4DFF-8A38-3F1B29A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0523D7-E3B4-4B9F-92D4-12EB891B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E2FD87-FC2C-4100-A44A-07B4E96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179F6C-290D-4FF5-B014-7CD3470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A1EB88-519B-41F1-B24E-79E50AA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690B6A-E7DA-4BF4-B0E5-01E1162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B8314-77A2-4686-89E8-E3F9405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D1EBF9-4E95-449D-8E5A-20ED1A34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21A4DB-CAFD-49DD-A6CA-44CA54A6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307764-7AF0-4567-AEBB-B9896B39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E66C-FE98-442A-BC72-26F3CA20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24A7C-9568-4EAA-9BF5-6BBA0D2F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73BE4D-4275-4C95-B6E6-D20A949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5B960B-C804-4719-837B-D865899B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A233A2-E6D9-4EF6-8E9C-96FFA0E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6A38C-E7B7-4F35-B5B5-86A2139A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7F036B-91BC-4F7E-8B7C-6D6FB6A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CE6061-8C4D-4BD5-BF64-E21219F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4159D-18BD-4433-8CB1-5878AE0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9AB57-1216-4170-8704-FF9E864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013A2E-03BF-43F4-B10F-73EB6FFB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26E-75FD-4474-8B59-73E4BF1D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C2EC-266F-4BCC-A5A3-2551A859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D013D5-55C7-42F6-894A-30EC0CD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77128E-C7F7-44EB-8B6B-440AFA4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24BEC9-13E5-411E-AB4B-7A71AD4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04C09B-A3CF-4729-80CA-6D8C8D56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375C07-84CB-43CF-8AA9-894FBF7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E0F01-1DBD-4040-A41D-5ECE120C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7253E3-08CC-4D21-8631-D1625FB2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28831-A298-411F-9E4A-763473ED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487E36-2FBD-49E0-9152-8D0E12F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39C3D4-443E-40C3-8A15-9EF025C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C511-EE68-4E01-A843-3FB5CEC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FC956F-6755-45BD-B1BA-B37AF00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626FAB-6F3A-4510-8836-139A90E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D77695-2964-4BDA-98EF-7C66626B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50C5D7-51C3-4AD0-83B6-14808EC3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1C4865-8652-41E3-8677-B80ADD9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3DE8A0-EC0F-46B0-BB47-6B01D6E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4D7D60-E2DD-4921-9836-D646D1C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CD7116-7889-4421-A01A-C17F57D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72228E-9506-4763-B088-6395A469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FE5C2-88AB-462B-B6CD-31F297E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7A22-2CE3-4885-9BD4-F9BE814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00CE30-C5DD-4F89-918E-D03A6EA0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77C301-3D85-4FBA-9A35-D99FD723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F43E47-F84E-421C-8086-90676D67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EC9D13-0C17-490E-AE24-22575EB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DA6C26-4753-46D2-8DAD-0D5C6E26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FC1D7D-423B-415E-8186-0FC3721F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F229C0-0808-49C7-B7DC-23237A90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197E14-7220-4AD6-A184-B14D666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8F809D-AB3E-44B0-BBB0-FCA5553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AC79FD-9DFB-452A-BE25-AEC725B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FE62-3DCC-4E3F-8974-562B6C7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7597FB-78A0-4AB5-B928-1CDBA4D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4BB84E-1946-42AD-A17B-ED99F35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3CADC4-45A2-4C7B-883B-55C6E49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253D52-FCF9-43DA-B128-AAD5817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3CBA2C-A691-42E5-AE50-BED02589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AA5B0-DAE1-400C-AB7D-C8B0C0E8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96C8D5-C251-488C-8847-FA3D7B37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5BA9A5-29A9-481A-9F93-AAD78DB6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88F5C3-61DF-4178-94CB-BF969D7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01B349-BDEE-4D04-A07B-6D18D81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69804-1B6C-42E2-8477-D75C02F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D23051-575E-46B0-B2AE-2A318AE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58829F-956F-4A2A-9967-2C8D5D47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48E542-8D31-4B0E-8F35-12CC2CC9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EB9252-E3C2-4975-8826-5D3121E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D5F60F-8C0C-4B32-9532-DDB54160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8F1E98-FFA9-4B7D-B7B2-4608880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96B0F8-AFA5-49A2-AFDC-64929F5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9649D8-B330-45D9-A4F4-F8EE54BB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2BC048-D00E-473F-B88E-13923172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5E1058-56F3-4551-AE06-0F1803E2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8228-7932-4CF4-A002-20F108C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F5E3F2-9BAA-4042-93BA-416F1F4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027F54-9DE5-4CA5-A50F-1A8CBFD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C556A-A89F-47AB-A989-C6B97147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BF0BD9-F59B-475D-A855-B2BA013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8B4939-0287-45D8-B304-A9EEF543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8ACB94-9440-4317-9904-7090F094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E60F3A-E5FC-4BFB-A118-DB6789E3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9D2402-562E-4E61-860A-7698BA6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875FF1-A043-4450-B959-7B2534E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A543C7-D015-4293-86B1-801A4A4D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49AB-E2DF-402F-A041-F70F38D8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CBDC59-7DB4-44C7-AC41-A8624E41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AD52D0-9E86-4278-BDAA-35289D4D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E298C2-7073-4D06-A11E-A2D19AC0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61B71C-D4C6-4CD5-813F-0D5B78A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C5F2A9-E02C-4177-99C2-F5021F7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50862E-ED1F-48F5-BA21-ED8C29E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1BE75B-525B-4782-AC46-834EC2F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5E1D58-2908-4558-B4F7-BF7513E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8BE8E9-FAAD-4E79-8DFF-B0C2B80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C9AB1D-FB91-481E-8E8D-3F3CC73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281A-D65A-46D6-9FC1-7E56B390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4E3895-BAB8-4D6D-9BBA-DDF3F1E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6482EB-C7C9-42E5-A273-68C1A1DF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300B65-105D-4997-AE3A-50F9A725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6A3B-4F16-4AA1-B46D-5B43D60B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10B9-402E-4358-80D0-169CA8CB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041-DBF1-4C83-9ADA-581AC0E5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FCDF-566C-4531-9C89-734E6316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FE95-B101-479B-BCE9-556EC5B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A253-6B47-407E-B90D-B55F0CF5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5CCA-DFAD-4C5E-9370-A9AF27ED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C65E9-3FE1-4B93-A741-EE3999E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A20B-A50C-48EE-94DE-A669CB9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73179-AD61-49CD-A7B2-09667DC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2144-F373-435F-9CE5-638CC715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4F40-92B7-4FA4-8A18-4518C347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C0AB-9EB8-4CB3-916A-C104CC04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BFD-1A06-437C-859E-8F5570E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7605-C83F-466F-A1A7-8A2CEE24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E88E-A21F-4DC1-944E-1284F916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009A-58DA-4EFE-8154-B50221A0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9FA69-4E78-402D-A102-3023F3D5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EF00-92C6-444C-A73B-AAB36E8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1B81-F080-42C9-8128-4910ECA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957B-306F-4D30-91E9-70E06F8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77091-EDFF-4382-8616-CD31D95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7EDB-97FE-4F21-B3DA-0771123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4508B-D660-4617-ACF3-D664AC8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0D9-D110-4992-8AB8-160D91A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AE6B5-2D75-43E8-8D64-B79D343C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80F22-BAB3-4321-82EB-DC7037E8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CE30-96B0-4E63-859A-92667367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E123-7582-42C2-A35C-4D662803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BE98-F1B9-448A-9E1F-13927E8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505A-1E37-4F2B-A7F3-4088A86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2AB65-9D4A-470D-9A60-F961BC51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AEEE3-E282-4922-9152-F108DDDE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320B-640F-4CFE-AE27-DCFB1A9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5E4C-D9AD-4592-AEB5-D22FC76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7C6-7DEE-493E-95C3-77D914D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F41F6-6EDC-4F4F-BC64-03BD7B7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4CC5E-3607-4E5E-AA7F-843E751A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64A9-BC6D-41BC-8F59-4125EA9A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E9CFC-0A12-4A20-AF1B-BD89726E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A5E2-A2D8-4D0F-AD5E-4B40B41E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FE69-312F-4275-8CB3-CCAF513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DD201-A8E0-4BFF-A716-9E2D1DD8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FFDA7-5AA8-4DD7-8C78-5FF0CDD8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91B5-168D-4685-BD78-6B1F793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23E1-40FE-44C2-9F59-B236FFB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206-CBB9-46EB-8312-9241416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1002-4A0D-4B5E-B22C-2DA0230F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AB5B-5A69-448C-93AA-E1C04D4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78C24-4CA1-45A0-A10C-06D670D1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0D05C-0B97-4738-9D61-D911AEB5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D8738-6809-43A3-84C4-79EE59FE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99A0-043A-413C-9544-FD8477EF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4234F-9A65-4A9F-9023-44EA883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FDDE-0942-4828-852E-8B39587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59AE-8106-42BB-A848-3C9CD7B0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7CA7-1C3B-4A80-A8AC-6E327E55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42E-6C23-4294-8E3B-38899E58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6E6C0-6263-4137-B245-22A287B4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7925F-25C7-4BEE-891D-69330CD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92FF-46D8-4F45-9CC1-E601AE1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5310B-7D70-41EB-B780-DBF054D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0A156-079F-41A9-8C0F-2E90298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E9D86-8302-46AE-8713-1A31335C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FC2A8-61AD-4BF1-A429-07D79D2C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5EC40-1B74-498D-ACCC-CEF09440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7F925-043F-4EEE-8648-1701616D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F0D6-DDA2-45C5-896F-DE5A8116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4492-D45B-47E6-B05B-BD7765BBBE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52F-B9D8-4B6C-97C6-104DD7106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A85E-A5C0-4BBC-91CF-1629662BD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40D-00A8-40FB-A559-FAE074E66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7240-56F3-497E-985E-7B803D616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6606-2648-4320-9570-FBD0FE89A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6B58-3275-4526-BB6C-E4530F3F1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D1D-C9D2-4A4C-BA00-B0AC69AE00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D541-CD67-43AD-ABB3-00CD8BA1E4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D66-6BA0-4D7B-A66B-46BAF1E3A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46ED-09D0-43B7-AE70-D00F89414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8BA-4D07-41E7-92FA-6E3A1902E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9AF4-B887-4148-AD0F-B369EE91A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3661-22DC-4AD1-94A9-F293ABA93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8FA1-D11B-461B-BF62-EF46761DFD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A15-DAFB-483A-ACFD-2E2FF6318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5BE3-6D55-432E-B8C8-A8EE228B6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E1E-0AC1-4143-B0EC-CC5A6A774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6EE-4555-4389-80E5-A6C3A8C35F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ABB-0156-409E-8FE0-283D5104A4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BC6C-2A78-4FA3-9DA7-0F1F9B155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DEF0-6040-492E-97F3-57FC370E5B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C11-6E97-40A2-8046-2F07CA727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FB39-061F-4B06-A93A-02E326FF3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BC53-EDE2-41FA-B25A-1E22B23276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4C7-4DD8-4EDF-BCA3-BA5BB72FBD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6E7A-A200-4D6B-8868-256517DBA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865-D4B2-48BB-A488-BF9DDABDAA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E953-3998-4B8C-B62F-71FFCDCB2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98FC-1818-49F6-8912-0642F7B54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0AB-4487-4ABD-BCC8-DB93FE4CF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B05B-84AF-4EB9-B31D-2047BB9D7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3CE4-17FA-4004-B52E-F56D56A00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2EE8-13D8-4480-9F11-E23FB363DF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FD4-5660-4E8C-ACF5-38DE8AE43E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555-A01B-476A-A1C6-5382C8D26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A78-049A-4B4F-A928-6286645DE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FBE5-0370-4C36-A45A-C01C0BF44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CEB-B282-4DA7-AA6B-A18308392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2C69-9A7B-41C7-8E69-F175710759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DD2C-D63E-4288-BE2F-322676290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A088-2CE0-4169-9F8B-EAA99AF5B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52E-6A7B-46FF-9157-719D8C0EE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A631-5EC4-4203-B04F-015D2A97C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35A-1485-4B81-8C75-055316F885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7756-AE40-429D-9128-A718C455BD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904B-7E32-4C68-9A8A-994A3FAB66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4B54-7B6C-4E64-87E6-274E821FB2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ACE8-6423-44A2-AAF9-CB14FDE69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9E1C-CAC9-443E-A191-C13F254C9F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09920" y="2171880"/>
            <a:ext cx="4124160" cy="7617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995400" y="3062160"/>
            <a:ext cx="7324560" cy="7336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3078000" y="4011480"/>
            <a:ext cx="27432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6737" descr=""/>
          <p:cNvPicPr/>
          <p:nvPr/>
        </p:nvPicPr>
        <p:blipFill>
          <a:blip r:embed="rId1"/>
          <a:stretch/>
        </p:blipFill>
        <p:spPr>
          <a:xfrm>
            <a:off x="843120" y="1847880"/>
            <a:ext cx="7457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5713" descr=""/>
          <p:cNvPicPr/>
          <p:nvPr/>
        </p:nvPicPr>
        <p:blipFill>
          <a:blip r:embed="rId1"/>
          <a:stretch/>
        </p:blipFill>
        <p:spPr>
          <a:xfrm>
            <a:off x="682560" y="703440"/>
            <a:ext cx="7791480" cy="4547880"/>
          </a:xfrm>
          <a:prstGeom prst="rect">
            <a:avLst/>
          </a:prstGeom>
          <a:ln w="0">
            <a:noFill/>
          </a:ln>
        </p:spPr>
      </p:pic>
      <p:pic>
        <p:nvPicPr>
          <p:cNvPr id="1463" name="图片 115714" descr=""/>
          <p:cNvPicPr/>
          <p:nvPr/>
        </p:nvPicPr>
        <p:blipFill>
          <a:blip r:embed="rId2"/>
          <a:stretch/>
        </p:blipFill>
        <p:spPr>
          <a:xfrm>
            <a:off x="1224000" y="5329080"/>
            <a:ext cx="6858000" cy="14526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5715"/>
          <p:cNvSpPr/>
          <p:nvPr/>
        </p:nvSpPr>
        <p:spPr>
          <a:xfrm>
            <a:off x="3352680" y="4835520"/>
            <a:ext cx="11480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5716"/>
          <p:cNvSpPr/>
          <p:nvPr/>
        </p:nvSpPr>
        <p:spPr>
          <a:xfrm>
            <a:off x="5580000" y="4826160"/>
            <a:ext cx="7668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7"/>
          <p:cNvSpPr/>
          <p:nvPr/>
        </p:nvSpPr>
        <p:spPr>
          <a:xfrm>
            <a:off x="3492360" y="5300640"/>
            <a:ext cx="1471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8"/>
          <p:cNvSpPr/>
          <p:nvPr/>
        </p:nvSpPr>
        <p:spPr>
          <a:xfrm>
            <a:off x="3328920" y="5848200"/>
            <a:ext cx="1471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5719"/>
          <p:cNvSpPr/>
          <p:nvPr/>
        </p:nvSpPr>
        <p:spPr>
          <a:xfrm>
            <a:off x="5705640" y="5834160"/>
            <a:ext cx="7664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4689" descr=""/>
          <p:cNvPicPr/>
          <p:nvPr/>
        </p:nvPicPr>
        <p:blipFill>
          <a:blip r:embed="rId1"/>
          <a:stretch/>
        </p:blipFill>
        <p:spPr>
          <a:xfrm>
            <a:off x="552600" y="2119320"/>
            <a:ext cx="8038800" cy="26193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4690"/>
          <p:cNvSpPr/>
          <p:nvPr/>
        </p:nvSpPr>
        <p:spPr>
          <a:xfrm>
            <a:off x="7715160" y="2654280"/>
            <a:ext cx="10479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1"/>
          <p:cNvSpPr/>
          <p:nvPr/>
        </p:nvSpPr>
        <p:spPr>
          <a:xfrm>
            <a:off x="1619280" y="3213000"/>
            <a:ext cx="7048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4692"/>
          <p:cNvSpPr/>
          <p:nvPr/>
        </p:nvSpPr>
        <p:spPr>
          <a:xfrm>
            <a:off x="2195640" y="4268880"/>
            <a:ext cx="1047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3665" descr=""/>
          <p:cNvPicPr/>
          <p:nvPr/>
        </p:nvPicPr>
        <p:blipFill>
          <a:blip r:embed="rId1"/>
          <a:stretch/>
        </p:blipFill>
        <p:spPr>
          <a:xfrm>
            <a:off x="639720" y="722160"/>
            <a:ext cx="7667640" cy="603108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3666"/>
          <p:cNvSpPr/>
          <p:nvPr/>
        </p:nvSpPr>
        <p:spPr>
          <a:xfrm>
            <a:off x="1895400" y="1720800"/>
            <a:ext cx="3857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67"/>
          <p:cNvSpPr/>
          <p:nvPr/>
        </p:nvSpPr>
        <p:spPr>
          <a:xfrm>
            <a:off x="6256440" y="2708280"/>
            <a:ext cx="2028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8"/>
          <p:cNvSpPr/>
          <p:nvPr/>
        </p:nvSpPr>
        <p:spPr>
          <a:xfrm>
            <a:off x="1676520" y="32446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69"/>
          <p:cNvSpPr/>
          <p:nvPr/>
        </p:nvSpPr>
        <p:spPr>
          <a:xfrm>
            <a:off x="3660840" y="580536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70"/>
          <p:cNvSpPr/>
          <p:nvPr/>
        </p:nvSpPr>
        <p:spPr>
          <a:xfrm>
            <a:off x="5867280" y="6308640"/>
            <a:ext cx="15526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2641" descr=""/>
          <p:cNvPicPr/>
          <p:nvPr/>
        </p:nvPicPr>
        <p:blipFill>
          <a:blip r:embed="rId1"/>
          <a:stretch/>
        </p:blipFill>
        <p:spPr>
          <a:xfrm>
            <a:off x="561960" y="1542960"/>
            <a:ext cx="8020080" cy="377208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2642"/>
          <p:cNvSpPr/>
          <p:nvPr/>
        </p:nvSpPr>
        <p:spPr>
          <a:xfrm>
            <a:off x="5715000" y="38257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1617" descr=""/>
          <p:cNvPicPr/>
          <p:nvPr/>
        </p:nvPicPr>
        <p:blipFill>
          <a:blip r:embed="rId1"/>
          <a:stretch/>
        </p:blipFill>
        <p:spPr>
          <a:xfrm>
            <a:off x="852480" y="1590840"/>
            <a:ext cx="7439040" cy="367632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1618"/>
          <p:cNvSpPr/>
          <p:nvPr/>
        </p:nvSpPr>
        <p:spPr>
          <a:xfrm>
            <a:off x="6076800" y="1644480"/>
            <a:ext cx="1749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19"/>
          <p:cNvSpPr/>
          <p:nvPr/>
        </p:nvSpPr>
        <p:spPr>
          <a:xfrm>
            <a:off x="5076720" y="2152800"/>
            <a:ext cx="13669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0"/>
          <p:cNvSpPr/>
          <p:nvPr/>
        </p:nvSpPr>
        <p:spPr>
          <a:xfrm>
            <a:off x="7572240" y="374004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0593" descr=""/>
          <p:cNvPicPr/>
          <p:nvPr/>
        </p:nvPicPr>
        <p:blipFill>
          <a:blip r:embed="rId1"/>
          <a:stretch/>
        </p:blipFill>
        <p:spPr>
          <a:xfrm>
            <a:off x="590400" y="1114560"/>
            <a:ext cx="7963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09569" descr=""/>
          <p:cNvPicPr/>
          <p:nvPr/>
        </p:nvPicPr>
        <p:blipFill>
          <a:blip r:embed="rId1"/>
          <a:stretch/>
        </p:blipFill>
        <p:spPr>
          <a:xfrm>
            <a:off x="696960" y="955800"/>
            <a:ext cx="7324560" cy="99036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109570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381800" cy="36194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09571"/>
          <p:cNvSpPr/>
          <p:nvPr/>
        </p:nvSpPr>
        <p:spPr>
          <a:xfrm>
            <a:off x="1952640" y="1501920"/>
            <a:ext cx="7142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09572"/>
          <p:cNvSpPr/>
          <p:nvPr/>
        </p:nvSpPr>
        <p:spPr>
          <a:xfrm>
            <a:off x="3324240" y="147312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9573"/>
          <p:cNvSpPr/>
          <p:nvPr/>
        </p:nvSpPr>
        <p:spPr>
          <a:xfrm>
            <a:off x="4859280" y="25653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9574"/>
          <p:cNvSpPr/>
          <p:nvPr/>
        </p:nvSpPr>
        <p:spPr>
          <a:xfrm>
            <a:off x="6516720" y="3141720"/>
            <a:ext cx="1533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5"/>
          <p:cNvSpPr/>
          <p:nvPr/>
        </p:nvSpPr>
        <p:spPr>
          <a:xfrm>
            <a:off x="1187280" y="3645000"/>
            <a:ext cx="51818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6"/>
          <p:cNvSpPr/>
          <p:nvPr/>
        </p:nvSpPr>
        <p:spPr>
          <a:xfrm>
            <a:off x="6729480" y="4168800"/>
            <a:ext cx="15336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7"/>
          <p:cNvSpPr/>
          <p:nvPr/>
        </p:nvSpPr>
        <p:spPr>
          <a:xfrm>
            <a:off x="1152360" y="4710240"/>
            <a:ext cx="684864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8"/>
          <p:cNvSpPr/>
          <p:nvPr/>
        </p:nvSpPr>
        <p:spPr>
          <a:xfrm>
            <a:off x="1116000" y="5229360"/>
            <a:ext cx="15336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8545" descr=""/>
          <p:cNvPicPr/>
          <p:nvPr/>
        </p:nvPicPr>
        <p:blipFill>
          <a:blip r:embed="rId1"/>
          <a:stretch/>
        </p:blipFill>
        <p:spPr>
          <a:xfrm>
            <a:off x="501480" y="701640"/>
            <a:ext cx="8058240" cy="601992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08546"/>
          <p:cNvSpPr/>
          <p:nvPr/>
        </p:nvSpPr>
        <p:spPr>
          <a:xfrm>
            <a:off x="6962760" y="4530600"/>
            <a:ext cx="981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8547"/>
          <p:cNvSpPr/>
          <p:nvPr/>
        </p:nvSpPr>
        <p:spPr>
          <a:xfrm>
            <a:off x="2195640" y="5046840"/>
            <a:ext cx="981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8"/>
          <p:cNvSpPr/>
          <p:nvPr/>
        </p:nvSpPr>
        <p:spPr>
          <a:xfrm>
            <a:off x="5651640" y="5586480"/>
            <a:ext cx="251460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9"/>
          <p:cNvSpPr/>
          <p:nvPr/>
        </p:nvSpPr>
        <p:spPr>
          <a:xfrm>
            <a:off x="5724360" y="6308640"/>
            <a:ext cx="981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07521" descr=""/>
          <p:cNvPicPr/>
          <p:nvPr/>
        </p:nvPicPr>
        <p:blipFill>
          <a:blip r:embed="rId1"/>
          <a:stretch/>
        </p:blipFill>
        <p:spPr>
          <a:xfrm>
            <a:off x="523800" y="785880"/>
            <a:ext cx="8039160" cy="578160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07522"/>
          <p:cNvSpPr/>
          <p:nvPr/>
        </p:nvSpPr>
        <p:spPr>
          <a:xfrm>
            <a:off x="5981760" y="2416320"/>
            <a:ext cx="25239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7523"/>
          <p:cNvSpPr/>
          <p:nvPr/>
        </p:nvSpPr>
        <p:spPr>
          <a:xfrm>
            <a:off x="7343640" y="2930400"/>
            <a:ext cx="1200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7524"/>
          <p:cNvSpPr/>
          <p:nvPr/>
        </p:nvSpPr>
        <p:spPr>
          <a:xfrm>
            <a:off x="2565360" y="5051520"/>
            <a:ext cx="15811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5"/>
          <p:cNvSpPr/>
          <p:nvPr/>
        </p:nvSpPr>
        <p:spPr>
          <a:xfrm>
            <a:off x="6300720" y="5589720"/>
            <a:ext cx="22384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6"/>
          <p:cNvSpPr/>
          <p:nvPr/>
        </p:nvSpPr>
        <p:spPr>
          <a:xfrm>
            <a:off x="1682640" y="6118200"/>
            <a:ext cx="5972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30" descr=""/>
          <p:cNvPicPr/>
          <p:nvPr/>
        </p:nvPicPr>
        <p:blipFill>
          <a:blip r:embed="rId1"/>
          <a:stretch/>
        </p:blipFill>
        <p:spPr>
          <a:xfrm>
            <a:off x="542880" y="1128600"/>
            <a:ext cx="8058240" cy="46008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1"/>
          <p:cNvSpPr/>
          <p:nvPr/>
        </p:nvSpPr>
        <p:spPr>
          <a:xfrm>
            <a:off x="7839000" y="16635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812000" y="270828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图片 106497" descr=""/>
          <p:cNvPicPr/>
          <p:nvPr/>
        </p:nvPicPr>
        <p:blipFill>
          <a:blip r:embed="rId1"/>
          <a:stretch/>
        </p:blipFill>
        <p:spPr>
          <a:xfrm>
            <a:off x="2560680" y="387360"/>
            <a:ext cx="3752640" cy="210348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06498" descr=""/>
          <p:cNvPicPr/>
          <p:nvPr/>
        </p:nvPicPr>
        <p:blipFill>
          <a:blip r:embed="rId2"/>
          <a:stretch/>
        </p:blipFill>
        <p:spPr>
          <a:xfrm>
            <a:off x="539640" y="2597040"/>
            <a:ext cx="7410600" cy="4210200"/>
          </a:xfrm>
          <a:prstGeom prst="rect">
            <a:avLst/>
          </a:prstGeom>
          <a:ln w="0">
            <a:noFill/>
          </a:ln>
        </p:spPr>
      </p:pic>
      <p:sp>
        <p:nvSpPr>
          <p:cNvPr id="1509" name="矩形 106499"/>
          <p:cNvSpPr/>
          <p:nvPr/>
        </p:nvSpPr>
        <p:spPr>
          <a:xfrm>
            <a:off x="7086600" y="4197240"/>
            <a:ext cx="8762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6500"/>
          <p:cNvSpPr/>
          <p:nvPr/>
        </p:nvSpPr>
        <p:spPr>
          <a:xfrm>
            <a:off x="971640" y="4724280"/>
            <a:ext cx="4752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6501"/>
          <p:cNvSpPr/>
          <p:nvPr/>
        </p:nvSpPr>
        <p:spPr>
          <a:xfrm>
            <a:off x="5651640" y="5805360"/>
            <a:ext cx="2114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06502"/>
          <p:cNvSpPr/>
          <p:nvPr/>
        </p:nvSpPr>
        <p:spPr>
          <a:xfrm>
            <a:off x="1042920" y="6308640"/>
            <a:ext cx="1728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01000" cy="1933920"/>
          </a:xfrm>
          <a:prstGeom prst="rect">
            <a:avLst/>
          </a:prstGeom>
          <a:ln w="0">
            <a:noFill/>
          </a:ln>
        </p:spPr>
      </p:pic>
      <p:pic>
        <p:nvPicPr>
          <p:cNvPr id="1439" name="图片 123906" descr=""/>
          <p:cNvPicPr/>
          <p:nvPr/>
        </p:nvPicPr>
        <p:blipFill>
          <a:blip r:embed="rId2"/>
          <a:stretch/>
        </p:blipFill>
        <p:spPr>
          <a:xfrm>
            <a:off x="390600" y="2852640"/>
            <a:ext cx="8001000" cy="86688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123907" descr=""/>
          <p:cNvPicPr/>
          <p:nvPr/>
        </p:nvPicPr>
        <p:blipFill>
          <a:blip r:embed="rId3"/>
          <a:stretch/>
        </p:blipFill>
        <p:spPr>
          <a:xfrm>
            <a:off x="922320" y="3306600"/>
            <a:ext cx="6429240" cy="156528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123908" descr=""/>
          <p:cNvPicPr/>
          <p:nvPr/>
        </p:nvPicPr>
        <p:blipFill>
          <a:blip r:embed="rId4"/>
          <a:stretch/>
        </p:blipFill>
        <p:spPr>
          <a:xfrm>
            <a:off x="971640" y="4724280"/>
            <a:ext cx="4429080" cy="19814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3909"/>
          <p:cNvSpPr/>
          <p:nvPr/>
        </p:nvSpPr>
        <p:spPr>
          <a:xfrm>
            <a:off x="7743960" y="131112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7667640" y="335772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20080" cy="96228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122882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638360" cy="203832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122883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381120" cy="249552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4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667040" cy="87660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1114560" cy="36216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1859" descr=""/>
          <p:cNvPicPr/>
          <p:nvPr/>
        </p:nvPicPr>
        <p:blipFill>
          <a:blip r:embed="rId3"/>
          <a:stretch/>
        </p:blipFill>
        <p:spPr>
          <a:xfrm>
            <a:off x="747720" y="2171880"/>
            <a:ext cx="7648560" cy="25146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60"/>
          <p:cNvSpPr/>
          <p:nvPr/>
        </p:nvSpPr>
        <p:spPr>
          <a:xfrm>
            <a:off x="2476440" y="1606680"/>
            <a:ext cx="4287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7960" cy="25624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20834" descr=""/>
          <p:cNvPicPr/>
          <p:nvPr/>
        </p:nvPicPr>
        <p:blipFill>
          <a:blip r:embed="rId2"/>
          <a:stretch/>
        </p:blipFill>
        <p:spPr>
          <a:xfrm>
            <a:off x="973080" y="3497400"/>
            <a:ext cx="4781520" cy="95220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0835"/>
          <p:cNvSpPr/>
          <p:nvPr/>
        </p:nvSpPr>
        <p:spPr>
          <a:xfrm>
            <a:off x="6143760" y="1901880"/>
            <a:ext cx="428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9809" descr=""/>
          <p:cNvPicPr/>
          <p:nvPr/>
        </p:nvPicPr>
        <p:blipFill>
          <a:blip r:embed="rId1"/>
          <a:stretch/>
        </p:blipFill>
        <p:spPr>
          <a:xfrm>
            <a:off x="576360" y="1800360"/>
            <a:ext cx="7991280" cy="32572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9810"/>
          <p:cNvSpPr/>
          <p:nvPr/>
        </p:nvSpPr>
        <p:spPr>
          <a:xfrm>
            <a:off x="7705800" y="1873080"/>
            <a:ext cx="4284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8785" descr=""/>
          <p:cNvPicPr/>
          <p:nvPr/>
        </p:nvPicPr>
        <p:blipFill>
          <a:blip r:embed="rId1"/>
          <a:stretch/>
        </p:blipFill>
        <p:spPr>
          <a:xfrm>
            <a:off x="547560" y="1376280"/>
            <a:ext cx="8048880" cy="41054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86"/>
          <p:cNvSpPr/>
          <p:nvPr/>
        </p:nvSpPr>
        <p:spPr>
          <a:xfrm>
            <a:off x="7781760" y="1397160"/>
            <a:ext cx="4194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7761" descr=""/>
          <p:cNvPicPr/>
          <p:nvPr/>
        </p:nvPicPr>
        <p:blipFill>
          <a:blip r:embed="rId1"/>
          <a:stretch/>
        </p:blipFill>
        <p:spPr>
          <a:xfrm>
            <a:off x="542880" y="1076400"/>
            <a:ext cx="8058240" cy="47052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7762"/>
          <p:cNvSpPr/>
          <p:nvPr/>
        </p:nvSpPr>
        <p:spPr>
          <a:xfrm>
            <a:off x="7772400" y="2673360"/>
            <a:ext cx="4287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3:3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